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814-F478-478F-8E75-A9E69C19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301-1297-4A71-BD96-C5DC6FD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2F0-ABB0-4FF8-9A0A-C62995CD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6EF-CF5F-4351-9081-445B56CD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8AE-4972-4B4F-83EF-35264A95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1E3A-1CA3-4E5F-B1DC-73015689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710-6C74-4BEB-B42A-8C0831FE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BBBA-EF91-496C-AE22-03D11FD3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CAB-A443-4DFF-B05F-75DF514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504-7EFA-489C-B7CF-B38FDDDC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5F7E-4861-43C4-8CA9-89D8067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426-22FF-4CC9-99AE-DEE8F8E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380B-0D3D-4156-8D67-5ED6ACC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CC1-3A63-47D3-A105-9AE79D0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6AF1-4F78-4331-B08A-68B4E49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15F7-9937-45D8-AC9C-8B725EC4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C1B8-1902-4501-A1EA-E7B58BAD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B9C-AC2F-44A8-BFD4-891F3F81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A97-E55B-4C56-8DA2-203D9804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E7A-5E0E-4E74-97CB-B6BF9B6B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559-66DC-4966-9AFE-346A986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0D0-E2F0-458E-9CC3-D1F3C86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3E8-858F-4579-8FA2-E39B3F2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C36-7421-4263-91E2-BE5CBCF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857F-9D34-4E45-9968-855BBCD883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C70-4F4B-4589-8A61-AE72EE22B2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600" spc="-1" strike="noStrike">
                <a:solidFill>
                  <a:srgbClr val="dbf5f9"/>
                </a:solidFill>
                <a:latin typeface="Calibri"/>
                <a:cs typeface="Traditional Arabic"/>
              </a:rPr>
              <a:t>بسم الله الرحمن الرحيم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374472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Constantia"/>
              </a:rPr>
              <a:t>Surfaces of body of Pancrea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Anterior surfac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lated to stomach , separated from it by the lesser sac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ferior surfac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lated to duodeno-jejunal flexure, loops of ileum and end of transverse colon (from right to left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Content Placeholder 4" descr="C:\Documents and Settings\Main\Desktop\2\32.jpg"/>
          <p:cNvPicPr/>
          <p:nvPr/>
        </p:nvPicPr>
        <p:blipFill>
          <a:blip r:embed="rId2"/>
          <a:stretch/>
        </p:blipFill>
        <p:spPr>
          <a:xfrm>
            <a:off x="4067280" y="907920"/>
            <a:ext cx="48639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1424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ody of pancreas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Posterior surfac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posterior abd. wall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Aorta and origin of sup. Mesenteric arte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Splenic and left ren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Left psoas maj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Left crus of diaphrag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Left kidne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- Left supra renal gla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- Left sympathetic cha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Picture 4" descr="C:\Documents and Settings\Main\Desktop\2\33.jpg"/>
          <p:cNvPicPr/>
          <p:nvPr/>
        </p:nvPicPr>
        <p:blipFill>
          <a:blip r:embed="rId2"/>
          <a:stretch/>
        </p:blipFill>
        <p:spPr>
          <a:xfrm>
            <a:off x="4572000" y="1214280"/>
            <a:ext cx="4371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714240"/>
            <a:ext cx="45352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Tail of pancrea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It is related to the visceral surface of spleen near its hil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It reaches the hilum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via the lieno-renal liga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433760" y="2565360"/>
            <a:ext cx="47102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3300"/>
                </a:solidFill>
                <a:uFillTx/>
                <a:latin typeface="Calibri"/>
              </a:rPr>
              <a:t>Ducts of pancreas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214280"/>
            <a:ext cx="3637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nstantia"/>
              </a:rPr>
              <a:t>Main pancreatic duct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drains the upper part of the head, all the body and tail of pancrea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runs from the tail to the head, then it unite with common bile duct to form ampulla of Vater which opens i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part of duodenum (postero-medial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Picture 2" descr="C:\Documents and Settings\Main\Desktop\liver\gallbladder1.jpg"/>
          <p:cNvPicPr/>
          <p:nvPr/>
        </p:nvPicPr>
        <p:blipFill>
          <a:blip r:embed="rId2"/>
          <a:stretch/>
        </p:blipFill>
        <p:spPr>
          <a:xfrm>
            <a:off x="3851280" y="1413000"/>
            <a:ext cx="51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3095640" cy="61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-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ccessory pancreatic du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drains the uncinate process and lower part of hea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opens in the 2nd part of duodenum above the ampulla of Va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C:\Documents and Settings\Main\Desktop\2\31.jpg"/>
          <p:cNvPicPr/>
          <p:nvPr/>
        </p:nvPicPr>
        <p:blipFill>
          <a:blip r:embed="rId2"/>
          <a:stretch/>
        </p:blipFill>
        <p:spPr>
          <a:xfrm>
            <a:off x="3635280" y="1557360"/>
            <a:ext cx="5329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Blood supply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125360"/>
            <a:ext cx="3456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Arterial suppl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Superior, inferior pancreatico-duodenal arteries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the he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- Pancreatic branches of splenic artery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the rest of pancre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enous drain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splenic vein and port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Content Placeholder 4" descr="C:\Users\dell\Desktop\anatomy presentation\untitled.bmp"/>
          <p:cNvPicPr/>
          <p:nvPr/>
        </p:nvPicPr>
        <p:blipFill>
          <a:blip r:embed="rId2"/>
          <a:stretch/>
        </p:blipFill>
        <p:spPr>
          <a:xfrm>
            <a:off x="3492360" y="1844640"/>
            <a:ext cx="56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lymphatic drain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Upper part of hea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elia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Lower part of hea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uperior mesenteri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Rest of pancrea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ncreatico-spleni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2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851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osition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1643040"/>
            <a:ext cx="36435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a combined exocrine, endocrine gland which lies transversely across the posterior abdominal w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extends from the concavity of the duodenum on the right side to the spleen on the left sid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Content Placeholder 3" descr="2226HepaticPortalSys_L.jpg"/>
          <p:cNvPicPr/>
          <p:nvPr/>
        </p:nvPicPr>
        <p:blipFill>
          <a:blip r:embed="rId2"/>
          <a:stretch/>
        </p:blipFill>
        <p:spPr>
          <a:xfrm>
            <a:off x="4071960" y="1857240"/>
            <a:ext cx="4929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300"/>
                </a:solidFill>
                <a:uFillTx/>
                <a:latin typeface="Calibri"/>
              </a:rPr>
              <a:t>Parts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643040"/>
            <a:ext cx="3286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H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Bod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T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ower part of the head forms a projection called uncinate proces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Picture 5" descr="C:\Documents and Settings\Main\Desktop\2\34.jpg"/>
          <p:cNvPicPr/>
          <p:nvPr/>
        </p:nvPicPr>
        <p:blipFill>
          <a:blip r:embed="rId2"/>
          <a:stretch/>
        </p:blipFill>
        <p:spPr>
          <a:xfrm>
            <a:off x="4075200" y="2500200"/>
            <a:ext cx="5022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28400"/>
            <a:ext cx="403848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nstantia"/>
              </a:rPr>
              <a:t>Borders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Sup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splenic arte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Ant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gives attachment to transverse mesocolon and greater oment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Inf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separates the inferior from the posterior surf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4" descr="C:\Documents and Settings\Main\Desktop\2\30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05080" cy="308448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4" descr="C:\Users\dell\Desktop\anatomy presentation\untitled.bmp"/>
          <p:cNvPicPr/>
          <p:nvPr/>
        </p:nvPicPr>
        <p:blipFill>
          <a:blip r:embed="rId3"/>
          <a:stretch/>
        </p:blipFill>
        <p:spPr>
          <a:xfrm>
            <a:off x="4643280" y="428760"/>
            <a:ext cx="442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Relations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267920"/>
            <a:ext cx="3600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Constantia"/>
              </a:rPr>
              <a:t>Head of pancre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lies in the concavity of the duoden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the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of duodenum superiorly, 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on the right side ( separated from it by sup. &amp; inf. pancreatico -duodenal arteries) and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inferior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968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324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Constantia"/>
              </a:rPr>
              <a:t>Head of Pancre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eriorly , it is related to transverse col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teriorly , it is related to IVC, renal veins and common bile du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cinate process lies between abd. aorta and superior mesenteric vess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49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5480" y="499680"/>
            <a:ext cx="37861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Neck of pancrea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Anteriorly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gastro-duodenal jun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Posteriorly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the formation of portal vein from splenic and superior mesenteric vei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Content Placeholder 4" descr="C:\Users\dell\Desktop\anatomy presentation\untitled.bmp"/>
          <p:cNvPicPr/>
          <p:nvPr/>
        </p:nvPicPr>
        <p:blipFill>
          <a:blip r:embed="rId2"/>
          <a:stretch/>
        </p:blipFill>
        <p:spPr>
          <a:xfrm>
            <a:off x="4357800" y="3857760"/>
            <a:ext cx="4599000" cy="28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4616280" y="289080"/>
            <a:ext cx="3988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500040"/>
            <a:ext cx="84358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nstantia"/>
              </a:rPr>
              <a:t>Body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t has three surfaces (anterior, posterior and inferior) and three borders (anterior, superior and inferior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4" descr="C:\Documents and Settings\Main\Desktop\2\30.jpg"/>
          <p:cNvPicPr/>
          <p:nvPr/>
        </p:nvPicPr>
        <p:blipFill>
          <a:blip r:embed="rId2"/>
          <a:stretch/>
        </p:blipFill>
        <p:spPr>
          <a:xfrm>
            <a:off x="2411280" y="2421000"/>
            <a:ext cx="58327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6:02:21Z</dcterms:created>
  <dc:creator>Main</dc:creator>
  <dc:description/>
  <dc:language>en-US</dc:language>
  <cp:lastModifiedBy>Prof. Dr. Shawky</cp:lastModifiedBy>
  <dcterms:modified xsi:type="dcterms:W3CDTF">2014-04-18T16:43:39Z</dcterms:modified>
  <cp:revision>49</cp:revision>
  <dc:subject/>
  <dc:title>Pancreas</dc:title>
</cp:coreProperties>
</file>